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hematic drawing showing subdivisions of the hypothalamic paraventricular nucleus (PVN; A) and fluorescent photomicrograph of retrogradely labeled neurons in the PVN (B) after unilateral injection of cholera toxin B subunit (CTB) in the ventral horns of the spinal cord (C3-C4). 3V, 3rd ventricle; dp, dorsal parvocellular; mpd, medial parvocellular dorsal; mpv, medial parvocellular ventral; pm, posterior magnocellular. Scale bar = 100 μ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uorescent photomicrographs showing retrograde tracer CTB that was microinjected into phrenic motoneurons (A), immunohistochemical dual labeling of PVN cells for oxytocin (OXY;B), and the merged (M) image of CTB and OXY traits (C). Arrows indicate a representative neuron expressing both CTB and OXY. The asterisk indicates a CTB-positive neuron that does not express OXY. Scale bar = 50 μm. D: quantitative analysis of the no. of cells in the PVN that were positive for CTB alone and the no. of neurons that expressed both CTB and OXY (n = 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uorescent photomicrographs showing CTB after bilateral microinjection of CTB into the pre-Bötzinger complex (A), immunohistochemical dual labeling of neurons in the PVN expressing OXY (B), and the M image of CTB and OXY traits (C). Arrows show a representative neuron expressing both CTB and OXY. The asterisk indicates a CTB-positive cell that does not express OXY. Scale bar = 50 μm. D: analysis of the no. of cells in the PVN that expressed CTB alone and the no. of cells that were positive for CTB and OXY (n = 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uorescent photomicrographs showing pseudorabies virus (PRV) after PRV injection into the costal region of the diaphragm (A), immunohistochemical dual-labeling of neurons in the PVN expressing OXY (B), and the M image of PRV and OXY traits (C). Arrows show a representative neuron expressing both PRV and OXY. The asterisk indicates a PRV-positive cell that does not express OXY. Scale bar = 50 μm. D: quantitative analysis of neurons in the PVN expressing PRV alone and cells coexpressing PRV and OXY (n = 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: coronal section showing site of microinjection of OXY in the pre-Bötzinger complex within the rostral ventrolateral medulla (RVLM). B: specific immunofluorescent staining indicates the presence of neurokinin-1 receptors in the pre-Bötzinger complex. C: neurons in the pre-Bötzinger region that express the OXY receptor. Scale bars = 50 μm (B) and 25 μm 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: representative recording of integrated diaphragm electromyographic activity (∫DEMG) and arterial blood pressure (BP) showing response to unilateral microinjection of OXY (0.2 nmol/site, 200 nl) in the pre-Bötzinger complex within the RVLM. Arrow indicates time of injection. Bottom: means ± SD of changes in peak DEMG (A), minute DEMG (B), expiratory time (Te; C), and inspiratory time (Ti; D) duration before (open bars) and after (hatched bars) microinjection (n = 10 animals). au, Arbitrary units. * Statistical difference, P &lt; 0.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hematic presentation of the neural pathways involved in OXY-related regulation of respiratory output. See explanation in th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aventricular oxytocin neurons are involved in neural modulation of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. O. Mack, P. Kc, M. Wu, B. R. Coleman, F. P. Tolentino-Silva, and M. A. Haxh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ournal of Applied Phys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92(2):826-8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1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tic drawing showing subdivisions of the hypothalamic paraventricular nucleus (PVN; A) and fluorescent photomicrograph of retrogradely labeled neurons in the PVN (B) after unilateral injection of cholera toxin B subunit (CTB) in the ventral horns of th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082520"/>
            <a:ext cx="8604360" cy="5386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uorescent photomicrographs showing retrograde tracer CTB that was microinjected into phrenic motoneurons (A), immunohistochemical dual labeling of PVN cells for oxytocin (OXY;B), and the merged (M) image of CTB and OXY traits (C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3280" y="1079640"/>
            <a:ext cx="67374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3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uorescent photomicrographs showing CTB after bilateral microinjection of CTB into the pre-Bötzinger complex (A), immunohistochemical dual labeling of neurons in the PVN expressing OXY (B), and the M image of CTB and OXY traits (C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1040" y="1079640"/>
            <a:ext cx="65833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10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uorescent photomicrographs showing pseudorabies virus (PRV) after PRV injection into the costal region of the diaphragm (A), immunohistochemical dual-labeling of neurons in the PVN expressing OXY (B), and the M image of PRV and OXY traits (C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41520" y="1079640"/>
            <a:ext cx="700416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41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: coronal section showing site of microinjection of OXY in the pre-Bötzinger complex within the rostral ventrolateral medulla (RVLM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3840" y="1079640"/>
            <a:ext cx="749772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938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p: representative recording of integrated diaphragm electromyographic activity (∫DEMG) and arterial blood pressure (BP) showing response to unilateral microinjection of OXY (0.2 nmol/site, 200 nl) in the pre-Bötzinger complex within the RVLM. Arrow indica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76360" y="1079640"/>
            <a:ext cx="533412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763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tic presentation of the neural pathways involved in OXY-related regulation of respiratory outpu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63960" y="1079640"/>
            <a:ext cx="395928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639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. O. Mack et al. J Appl Physiol 2002;92:826-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