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eft: diagrams of stimulation arrangements. The nerve supply to the muscle was separated into 6 portions that were stimulated by the rotating contact. The speed of rotation or stimulation rate is the same for all stimulation protocols.Right: actual recordings of the isometric tension in the medial gastrocnemius muscle of the anesthetized cat for each stimulation protocol. Tension (2 N) and time (0.2 s) calibrations for all 3 traces are at bottom right. Top: 6 pieces of muscle nerve were simultaneously stimulated (synchronous) at 6 pulses per second (pps), leading to a series of twitch contractions. Middle: contacts were evenly spaced around the perimeter, generating a series of contractions with equal time intervals between them. Because nerve portions are stimulated one after the other, this is defined as distributed stimulation. Notice that the contraction generated includes a component of maintained tension that has superimposed on it a smaller tension oscillation than for synchronous stimulation. Bottom: distributed stimulation with unequal intervals. A computer calculated spacings that minimized tension fluctuations at the speed of rotation of the central contactor. The tension trace shows that this “optimized” stimulation further reduced the tension oscillation (&lt;1% of ripple at stimulation frequency) and increased the amount of steady tens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op: plots of mean tension levels calculated from tension traces and comparison of optimized, distributed stimulation (thin line) with synchronous stimulation (thick line) over a range of stimulation rates from 4 to 35 pps. Error bars indicate the mean peak-to-peak fluctuations in tension at each stimulation rate.Bottom: changes in delays between stimulus channels as the tension generated by each channel changes during continuous stimulation at 6 pps over 20 min. There are 6 stimulus channels with 5 sets of intervals between them. For each interval trace, new interval values are indicated by circles. During this 20 min period, there were 111 updates. The number of updates could be controlled manually. The timing of each stimulus is given as the delay between it and the stimulus tochannel 1. Notice that, early in stimulation, intervals were changing quite rapidly in response to the period of tension potentiation followed by the onset of fatigu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mparison from one experiment of the decline in tension during optimized, distributed stimulation of 6 channels, each at 6 pps, and synchronous stimulation at 36 pps over a 5-min period of continuous stimulation. Although the tension generated by synchronous stimulation reached a higher peak, it rapidly fell as fatigue took effect, finishing at a much lower level than that for distributed stimul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tension (thin line) and electromyogram (EMG; thick line) during synchronous stimulation at 36 pps. After an initial but brief period of potentiation of both tension and EMG, both fell precipitously to finish at 50% of their original value after 1 min of stimulation. The subsequent fall over the following 5 min was more gradual. After 5.7 min, when tension had fallen to 4% of its initial value, stimulation was interrupted for periods of 1–10 s. After resumption of stimulation, there was significant recovery of both tension and EMG that was followed by a rapid decline. B: tension and EMG during continuous, optimized, distributed stimulation at 6 pps in each of 6 channels. There was some potentiation, followed by decline of both tension and EMG. Notice the much longer period of stimulation. At 19 min, stimulation was interrupted for periods of 1–10 s. There was no overshoot of tension or EMG after recommencement of stimul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EMG and tension for intermittent, synchronous stimulation at 36 pps. Over the 40-min stimulation period, tension fell by 64% and EMG by 69% of its initial value.B: EMG and tension for intermittent, distributed stimulation at 6 pps in each of 6 channels. There was virtually no drop in EMG and only a 35% drop in tension during the 40 min of stimul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ag is the fall in tension from maximum to minimum during each contraction, using the intermittent stimulation protocol. An example of sag during a contraction is shown (inset). Sag is quantified by expressing it as a percentage of the average tension during each contraction. During optimized, distributed, stimulation at 6 pps in each of 6 channels (thick line), there is an early increase in sag, which then declines and remains relatively steady after 10 s of stimulation. For synchronous stimulation at 36 pps (thin line), there is a much larger increase in sag that begins to decrease after 15 min of stimulation, reaching a final value below that for distributed stimul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Fatigue in mammalian skeletal muscle stimulated under computer control</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A. K. Wise, D. L. Morgan, J. E. Gregory, and U. Proske</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ournal of Applied Physiology</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90(1):189-197</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anuary 1,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eft: diagrams of stimulation arrangement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3216240" y="1079640"/>
            <a:ext cx="3654360" cy="5394240"/>
          </a:xfrm>
          <a:prstGeom prst="rect">
            <a:avLst/>
          </a:prstGeom>
          <a:ln w="0">
            <a:noFill/>
          </a:ln>
        </p:spPr>
      </p:pic>
      <p:sp>
        <p:nvSpPr>
          <p:cNvPr id="49" name=""/>
          <p:cNvSpPr/>
          <p:nvPr/>
        </p:nvSpPr>
        <p:spPr>
          <a:xfrm>
            <a:off x="3216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 K. Wise et al. J Appl Physiol 2001;90:189-197</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op: plots of mean tension levels calculated from tension traces and comparison of optimized, distributed stimulation (thin line) with synchronous stimulation (thick line) over a range of stimulation rates from 4 to 35 pp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3403440" y="1079640"/>
            <a:ext cx="3278520" cy="5394240"/>
          </a:xfrm>
          <a:prstGeom prst="rect">
            <a:avLst/>
          </a:prstGeom>
          <a:ln w="0">
            <a:noFill/>
          </a:ln>
        </p:spPr>
      </p:pic>
      <p:sp>
        <p:nvSpPr>
          <p:cNvPr id="54" name=""/>
          <p:cNvSpPr/>
          <p:nvPr/>
        </p:nvSpPr>
        <p:spPr>
          <a:xfrm>
            <a:off x="34034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 K. Wise et al. J Appl Physiol 2001;90:189-197</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mparison from one experiment of the decline in tension during optimized, distributed stimulation of 6 channels, each at 6 pps, and synchronous stimulation at 36 pps over a 5-min period of continuous stimulation.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1623960" y="1079640"/>
            <a:ext cx="6838920" cy="5394240"/>
          </a:xfrm>
          <a:prstGeom prst="rect">
            <a:avLst/>
          </a:prstGeom>
          <a:ln w="0">
            <a:noFill/>
          </a:ln>
        </p:spPr>
      </p:pic>
      <p:sp>
        <p:nvSpPr>
          <p:cNvPr id="59" name=""/>
          <p:cNvSpPr/>
          <p:nvPr/>
        </p:nvSpPr>
        <p:spPr>
          <a:xfrm>
            <a:off x="1623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 K. Wise et al. J Appl Physiol 2001;90:189-197</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tension (thin line) and electromyogram (EMG; thick line) during synchronous stimulation at 36 pp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5133960" y="6602400"/>
            <a:ext cx="4467240" cy="712800"/>
          </a:xfrm>
          <a:prstGeom prst="rect">
            <a:avLst/>
          </a:prstGeom>
          <a:ln w="0">
            <a:noFill/>
          </a:ln>
        </p:spPr>
      </p:pic>
      <p:pic>
        <p:nvPicPr>
          <p:cNvPr id="63" name="" descr=""/>
          <p:cNvPicPr/>
          <p:nvPr/>
        </p:nvPicPr>
        <p:blipFill>
          <a:blip r:embed="rId2"/>
          <a:stretch/>
        </p:blipFill>
        <p:spPr>
          <a:xfrm>
            <a:off x="3319560" y="1079640"/>
            <a:ext cx="3446280" cy="5394240"/>
          </a:xfrm>
          <a:prstGeom prst="rect">
            <a:avLst/>
          </a:prstGeom>
          <a:ln w="0">
            <a:noFill/>
          </a:ln>
        </p:spPr>
      </p:pic>
      <p:sp>
        <p:nvSpPr>
          <p:cNvPr id="64" name=""/>
          <p:cNvSpPr/>
          <p:nvPr/>
        </p:nvSpPr>
        <p:spPr>
          <a:xfrm>
            <a:off x="3319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 K. Wise et al. J Appl Physiol 2001;90:189-197</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EMG and tension for intermittent, synchronous stimulation at 36 pp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5133960" y="6602400"/>
            <a:ext cx="4467240" cy="712800"/>
          </a:xfrm>
          <a:prstGeom prst="rect">
            <a:avLst/>
          </a:prstGeom>
          <a:ln w="0">
            <a:noFill/>
          </a:ln>
        </p:spPr>
      </p:pic>
      <p:pic>
        <p:nvPicPr>
          <p:cNvPr id="68" name="" descr=""/>
          <p:cNvPicPr/>
          <p:nvPr/>
        </p:nvPicPr>
        <p:blipFill>
          <a:blip r:embed="rId2"/>
          <a:stretch/>
        </p:blipFill>
        <p:spPr>
          <a:xfrm>
            <a:off x="3295800" y="1079640"/>
            <a:ext cx="3493800" cy="5394240"/>
          </a:xfrm>
          <a:prstGeom prst="rect">
            <a:avLst/>
          </a:prstGeom>
          <a:ln w="0">
            <a:noFill/>
          </a:ln>
        </p:spPr>
      </p:pic>
      <p:sp>
        <p:nvSpPr>
          <p:cNvPr id="69" name=""/>
          <p:cNvSpPr/>
          <p:nvPr/>
        </p:nvSpPr>
        <p:spPr>
          <a:xfrm>
            <a:off x="329580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 K. Wise et al. J Appl Physiol 2001;90:189-197</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ag is the fall in tension from maximum to minimum during each contraction, using the intermittent stimulation protocol.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5133960" y="6602400"/>
            <a:ext cx="4467240" cy="712800"/>
          </a:xfrm>
          <a:prstGeom prst="rect">
            <a:avLst/>
          </a:prstGeom>
          <a:ln w="0">
            <a:noFill/>
          </a:ln>
        </p:spPr>
      </p:pic>
      <p:pic>
        <p:nvPicPr>
          <p:cNvPr id="73" name="" descr=""/>
          <p:cNvPicPr/>
          <p:nvPr/>
        </p:nvPicPr>
        <p:blipFill>
          <a:blip r:embed="rId2"/>
          <a:stretch/>
        </p:blipFill>
        <p:spPr>
          <a:xfrm>
            <a:off x="2216160" y="1079640"/>
            <a:ext cx="5653080" cy="5394240"/>
          </a:xfrm>
          <a:prstGeom prst="rect">
            <a:avLst/>
          </a:prstGeom>
          <a:ln w="0">
            <a:noFill/>
          </a:ln>
        </p:spPr>
      </p:pic>
      <p:sp>
        <p:nvSpPr>
          <p:cNvPr id="74" name=""/>
          <p:cNvSpPr/>
          <p:nvPr/>
        </p:nvSpPr>
        <p:spPr>
          <a:xfrm>
            <a:off x="2216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 K. Wise et al. J Appl Physiol 2001;90:189-197</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